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8.wmf" ContentType="image/x-wmf"/>
  <Override PartName="/ppt/media/image7.png" ContentType="image/png"/>
  <Override PartName="/ppt/media/image17.wmf" ContentType="image/x-wmf"/>
  <Override PartName="/ppt/media/image14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910-4C48-4C89-8A94-CA7DCC69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16D-5D8C-43FD-9BD8-B1FC3C8E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21E-5339-4A98-8DE0-C18FEA49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0C2-D928-4C8D-A5ED-9C3DE66D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74D-42AC-4D31-A35E-5EEBCE5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1DF-9FD1-4B0A-8A6B-A0AEED82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F0F4-B65F-427B-A22C-40623EB7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9E8-E591-4DAC-900D-083CC399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B83-0F12-48C7-AC15-CB29B74D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B5D-91C6-4FFB-BE22-69FAD288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A56-E442-4DEA-8CBB-E010E794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B24-5C2F-480A-8233-EF8F6320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461A-ABAE-4D9C-AE7B-1609A19C1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sund L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751040" cy="149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191120" y="3124080"/>
            <a:ext cx="3241440" cy="2149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" y="36576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2096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spiele oft Fussball, weil es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ich ist. Ich mache Gymnastiks, weil es mich fit halte. Ich jogge jeden Tag, weil es gut für meine Gesundheit 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48520" y="2286000"/>
            <a:ext cx="251136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733920" y="3505320"/>
            <a:ext cx="19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nicht gut dass, du rauchst oft, weil es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ich 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32911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toll dass, du joggst jeden tag fit zu hal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72200" y="14479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2381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Obst und G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se essen, weil es sehr gesund 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14234" r="46001" b="0"/>
          <a:stretch/>
        </p:blipFill>
        <p:spPr>
          <a:xfrm>
            <a:off x="5867280" y="1295280"/>
            <a:ext cx="2594160" cy="273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920" y="2057400"/>
            <a:ext cx="2286000" cy="167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14600" y="3962520"/>
            <a:ext cx="27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nicht rauchen, weil es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 ist. Ich finde rauchen ist schlec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657600" cy="261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520" y="2209680"/>
            <a:ext cx="34290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7:14:10Z</dcterms:created>
  <dc:creator>CUSD220</dc:creator>
  <dc:description/>
  <dc:language>en-US</dc:language>
  <cp:lastModifiedBy>CUSD220</cp:lastModifiedBy>
  <dcterms:modified xsi:type="dcterms:W3CDTF">2012-02-24T17:49:04Z</dcterms:modified>
  <cp:revision>3</cp:revision>
  <dc:subject/>
  <dc:title> </dc:title>
</cp:coreProperties>
</file>